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A6E2-134D-427B-A2B0-FB9FDDCE8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D86D-0329-431D-BA98-B7B529069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B696-C60B-4A14-8E6A-D4B3F29EB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E463-4CE9-45C4-B9A7-DF807DC34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9ED7-E105-463B-843A-EC46C0D8B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4503-682A-47C8-8D7F-931C4DFD2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B58E-6C56-407F-B26F-5AABC66D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EE1D-F4B2-47B9-A3FC-9AC0ED067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10B6-1C3D-4DC0-B8A9-9E8B39EBE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61C5-E36A-462E-8ACA-5D7528D1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ED24-97EF-49DE-9C76-0CF4D4DD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0ECF-8280-48B7-B00F-199CD512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DCA60-6717-4AB4-A73A-02DBC9719244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600" spc="-1" strike="noStrike">
                <a:solidFill>
                  <a:srgbClr val="000000"/>
                </a:solidFill>
                <a:latin typeface="Calibri"/>
              </a:rPr>
              <a:t>Wave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Wave For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av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re the primary force causing erosion along coastlin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wave is formed by the wind blowing across the surface of the water, creating ripples, which then grow into wav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waves reach the coast the lower section slows due to fric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pper section topples over and breaks forwar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Fet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etc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etermines how powerful a wave may b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the distance that the wave has travelled. For instance, a wave hitting the coast of Cornwall may have travelled over 4000 miles to get there, all the way across the Atlanti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ever a wave hitting Dover may have only travelled the width of the English Chann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www.owrc.com/waves/WaveFetch.gif"/>
          <p:cNvPicPr/>
          <p:nvPr/>
        </p:nvPicPr>
        <p:blipFill>
          <a:blip r:embed="rId1"/>
          <a:stretch/>
        </p:blipFill>
        <p:spPr>
          <a:xfrm>
            <a:off x="185760" y="2124000"/>
            <a:ext cx="885492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Destructive Wa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i) Their </a:t>
            </a: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backwash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is much stronger than their swash, thus allowing them to remove material from the beach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ii) They are frequent in number, usually between 10 and 15 per minute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iii) They are tall waves, meaning they have a greater distance to fall when they break. This causes them to scour out the beach material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iv) Destructive waves create a </a:t>
            </a: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steep narrow beach.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coastallandforms102.wikispaces.com/file/view/destructivewaves.gif/100349549/destructivewaves.gif"/>
          <p:cNvPicPr/>
          <p:nvPr/>
        </p:nvPicPr>
        <p:blipFill>
          <a:blip r:embed="rId1"/>
          <a:stretch/>
        </p:blipFill>
        <p:spPr>
          <a:xfrm>
            <a:off x="0" y="907920"/>
            <a:ext cx="914544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Constructive Wa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) Thei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was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much stronger than their backwash, causing the beach to be built up by the deposited materia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i) They are less frequent, reaching shore between 6 and 9 times each minut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ii) They are long waves and so roll onto the beach rather than crashing onto i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v) Constructive waves create a wide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ently sloping beach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www.geography.learnontheinternet.co.uk/images/coast/constructivewaves.gif"/>
          <p:cNvPicPr/>
          <p:nvPr/>
        </p:nvPicPr>
        <p:blipFill>
          <a:blip r:embed="rId1"/>
          <a:stretch/>
        </p:blipFill>
        <p:spPr>
          <a:xfrm>
            <a:off x="0" y="907920"/>
            <a:ext cx="914544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23:13:45Z</dcterms:created>
  <dc:creator>Dell_02</dc:creator>
  <dc:description/>
  <dc:language>en-US</dc:language>
  <cp:lastModifiedBy>Dell_02</cp:lastModifiedBy>
  <dcterms:modified xsi:type="dcterms:W3CDTF">2011-01-26T23:34:05Z</dcterms:modified>
  <cp:revision>2</cp:revision>
  <dc:subject/>
  <dc:title>Waves</dc:title>
</cp:coreProperties>
</file>